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763-DD8A-4713-A092-C97DED5E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5A8-80F1-49BD-8BEC-933A8FBF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4B3-40DC-4DD2-AE43-DD2451C7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72F-70EB-4DAC-9058-5E3FC9F8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8FD-1A2C-4949-A769-03088864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A0D-04D6-4E56-A2DC-10B0E5EE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C7D-AF00-4150-830F-0C74CBAA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F1B-4685-477D-B20C-64BB0BE2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1CE-0F17-4F46-B726-A39DA49B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E5E-3731-4900-B08E-C28C6AD5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E0D-EDE1-48ED-95EE-2816C3F5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5DF-311B-45D8-9AD5-E6CF33AE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CAA7-5363-4546-9309-CD1DBB05D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r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421000"/>
            <a:ext cx="2735280" cy="2233440"/>
          </a:xfrm>
          <a:prstGeom prst="cloudCallout">
            <a:avLst>
              <a:gd name="adj1" fmla="val -31370"/>
              <a:gd name="adj2" fmla="val 87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565360"/>
            <a:ext cx="2303640" cy="1511280"/>
          </a:xfrm>
          <a:prstGeom prst="cloudCallout">
            <a:avLst>
              <a:gd name="adj1" fmla="val -75569"/>
              <a:gd name="adj2" fmla="val 124157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4720" y="2637000"/>
            <a:ext cx="1872000" cy="1296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5516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773360"/>
            <a:ext cx="8280360" cy="1726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kann man mit Online- Banking mach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2522520"/>
          </a:xfrm>
          <a:prstGeom prst="cloudCallout">
            <a:avLst>
              <a:gd name="adj1" fmla="val 21240"/>
              <a:gd name="adj2" fmla="val -73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ld überwei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lastslide"/>
          </p:cNvPr>
          <p:cNvSpPr/>
          <p:nvPr/>
        </p:nvSpPr>
        <p:spPr>
          <a:xfrm>
            <a:off x="2987640" y="4149720"/>
            <a:ext cx="3311640" cy="2305080"/>
          </a:xfrm>
          <a:prstGeom prst="cloudCallout">
            <a:avLst>
              <a:gd name="adj1" fmla="val -29004"/>
              <a:gd name="adj2" fmla="val -8112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geld abh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lastslide"/>
          </p:cNvPr>
          <p:cNvSpPr/>
          <p:nvPr/>
        </p:nvSpPr>
        <p:spPr>
          <a:xfrm>
            <a:off x="6300720" y="4076640"/>
            <a:ext cx="2843280" cy="2233800"/>
          </a:xfrm>
          <a:prstGeom prst="cloudCallout">
            <a:avLst>
              <a:gd name="adj1" fmla="val -25546"/>
              <a:gd name="adj2" fmla="val -667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scheine in Münzen wechs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70028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zu verwendet man E-Mai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0" y="4076640"/>
            <a:ext cx="3276720" cy="2522520"/>
          </a:xfrm>
          <a:prstGeom prst="cloudCallout">
            <a:avLst>
              <a:gd name="adj1" fmla="val 14921"/>
              <a:gd name="adj2" fmla="val -73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 Geld zu überwei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3348000" y="4292640"/>
            <a:ext cx="3311640" cy="2305080"/>
          </a:xfrm>
          <a:prstGeom prst="cloudCallout">
            <a:avLst>
              <a:gd name="adj1" fmla="val -29004"/>
              <a:gd name="adj2" fmla="val -8112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 Nachrichten zu vers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lastslide"/>
          </p:cNvPr>
          <p:cNvSpPr/>
          <p:nvPr/>
        </p:nvSpPr>
        <p:spPr>
          <a:xfrm>
            <a:off x="6588000" y="4076640"/>
            <a:ext cx="2556000" cy="2233800"/>
          </a:xfrm>
          <a:prstGeom prst="cloudCallout">
            <a:avLst>
              <a:gd name="adj1" fmla="val -34037"/>
              <a:gd name="adj2" fmla="val -667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ik abspi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s Satzzeichen gehört ans Ende des folgenden Satz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73360"/>
            <a:ext cx="8280360" cy="1726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Spiele kann man im Internet nic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lastslide"/>
          </p:cNvPr>
          <p:cNvSpPr/>
          <p:nvPr/>
        </p:nvSpPr>
        <p:spPr>
          <a:xfrm>
            <a:off x="395280" y="4437000"/>
            <a:ext cx="2735280" cy="2233800"/>
          </a:xfrm>
          <a:prstGeom prst="cloudCallout">
            <a:avLst>
              <a:gd name="adj1" fmla="val -5134"/>
              <a:gd name="adj2" fmla="val -92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sp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3780000" y="4797360"/>
            <a:ext cx="2592360" cy="1511280"/>
          </a:xfrm>
          <a:prstGeom prst="cloudCallout">
            <a:avLst>
              <a:gd name="adj1" fmla="val -39833"/>
              <a:gd name="adj2" fmla="val -130884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ölker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lastslide"/>
          </p:cNvPr>
          <p:cNvSpPr/>
          <p:nvPr/>
        </p:nvSpPr>
        <p:spPr>
          <a:xfrm>
            <a:off x="6804000" y="5013360"/>
            <a:ext cx="1871640" cy="1297080"/>
          </a:xfrm>
          <a:prstGeom prst="cloudCallout">
            <a:avLst>
              <a:gd name="adj1" fmla="val -39736"/>
              <a:gd name="adj2" fmla="val -15110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189000"/>
            <a:ext cx="87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och einmal von vor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3141720"/>
            <a:ext cx="81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äsentation beend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3276720" y="549360"/>
            <a:ext cx="2158920" cy="1800000"/>
          </a:xfrm>
          <a:prstGeom prst="smileyFace">
            <a:avLst>
              <a:gd name="adj" fmla="val -4652"/>
            </a:avLst>
          </a:prstGeom>
          <a:solidFill>
            <a:srgbClr val="e74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492280"/>
            <a:ext cx="820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war leider nicht rich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uch es noch einm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1908000" y="4437000"/>
            <a:ext cx="5185080" cy="1152720"/>
          </a:xfrm>
          <a:prstGeom prst="leftArrow">
            <a:avLst>
              <a:gd name="adj1" fmla="val 50000"/>
              <a:gd name="adj2" fmla="val 112453"/>
            </a:avLst>
          </a:prstGeom>
          <a:solidFill>
            <a:srgbClr val="3ac6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773360"/>
            <a:ext cx="8280360" cy="1726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können Viren anrich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2522520"/>
          </a:xfrm>
          <a:prstGeom prst="cloudCallout">
            <a:avLst>
              <a:gd name="adj1" fmla="val 21240"/>
              <a:gd name="adj2" fmla="val -73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 Computer in die Luft spre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348000" y="4292640"/>
            <a:ext cx="3311640" cy="2305080"/>
          </a:xfrm>
          <a:prstGeom prst="cloudCallout">
            <a:avLst>
              <a:gd name="adj1" fmla="val -29004"/>
              <a:gd name="adj2" fmla="val -8112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 Computer zum Absturz b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lastslide"/>
          </p:cNvPr>
          <p:cNvSpPr/>
          <p:nvPr/>
        </p:nvSpPr>
        <p:spPr>
          <a:xfrm>
            <a:off x="6588000" y="4076640"/>
            <a:ext cx="2556000" cy="2233800"/>
          </a:xfrm>
          <a:prstGeom prst="cloudCallout">
            <a:avLst>
              <a:gd name="adj1" fmla="val -34037"/>
              <a:gd name="adj2" fmla="val -667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 Computer anzü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19700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Informationen geben wir sehr of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n uns preis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z. B Fac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0" y="3357720"/>
            <a:ext cx="3132000" cy="2665080"/>
          </a:xfrm>
          <a:prstGeom prst="cloudCallout">
            <a:avLst>
              <a:gd name="adj1" fmla="val 22782"/>
              <a:gd name="adj2" fmla="val -71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d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– 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hn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lastslide"/>
          </p:cNvPr>
          <p:cNvSpPr/>
          <p:nvPr/>
        </p:nvSpPr>
        <p:spPr>
          <a:xfrm>
            <a:off x="3132000" y="4292640"/>
            <a:ext cx="3240360" cy="1800360"/>
          </a:xfrm>
          <a:prstGeom prst="cloudCallout">
            <a:avLst>
              <a:gd name="adj1" fmla="val -26333"/>
              <a:gd name="adj2" fmla="val -141800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uhgröß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6300720" y="3357720"/>
            <a:ext cx="2843280" cy="1944360"/>
          </a:xfrm>
          <a:prstGeom prst="cloudCallout">
            <a:avLst>
              <a:gd name="adj1" fmla="val -44638"/>
              <a:gd name="adj2" fmla="val -7971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H-Größ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12536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Gefahren gib es im Inter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0" y="3213000"/>
            <a:ext cx="3348000" cy="1800360"/>
          </a:xfrm>
          <a:prstGeom prst="cloudCallout">
            <a:avLst>
              <a:gd name="adj1" fmla="val 50282"/>
              <a:gd name="adj2" fmla="val -78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nupfen bekom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lastslide"/>
          </p:cNvPr>
          <p:cNvSpPr/>
          <p:nvPr/>
        </p:nvSpPr>
        <p:spPr>
          <a:xfrm>
            <a:off x="2627280" y="4869000"/>
            <a:ext cx="3311640" cy="1584360"/>
          </a:xfrm>
          <a:prstGeom prst="cloudCallout">
            <a:avLst>
              <a:gd name="adj1" fmla="val 1629"/>
              <a:gd name="adj2" fmla="val -17494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ern beko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6046920" y="3357720"/>
            <a:ext cx="2701800" cy="1439640"/>
          </a:xfrm>
          <a:prstGeom prst="cloudCallout">
            <a:avLst>
              <a:gd name="adj1" fmla="val -35254"/>
              <a:gd name="adj2" fmla="val -8230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ko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19700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darf Facebook nicht mac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0" y="3860640"/>
            <a:ext cx="2986200" cy="2089440"/>
          </a:xfrm>
          <a:prstGeom prst="cloudCallout">
            <a:avLst>
              <a:gd name="adj1" fmla="val 32935"/>
              <a:gd name="adj2" fmla="val -98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n verka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lastslide"/>
          </p:cNvPr>
          <p:cNvSpPr/>
          <p:nvPr/>
        </p:nvSpPr>
        <p:spPr>
          <a:xfrm>
            <a:off x="2700360" y="4724280"/>
            <a:ext cx="2952720" cy="1729080"/>
          </a:xfrm>
          <a:prstGeom prst="cloudCallout">
            <a:avLst>
              <a:gd name="adj1" fmla="val -3546"/>
              <a:gd name="adj2" fmla="val -160101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der verka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5724360" y="4076640"/>
            <a:ext cx="3276720" cy="2232000"/>
          </a:xfrm>
          <a:prstGeom prst="cloudCallout">
            <a:avLst>
              <a:gd name="adj1" fmla="val -9203"/>
              <a:gd name="adj2" fmla="val -9708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Privateinstel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n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än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26828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e werden Computerviren oft verschick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1513080"/>
          </a:xfrm>
          <a:prstGeom prst="cloudCallout">
            <a:avLst>
              <a:gd name="adj1" fmla="val 32935"/>
              <a:gd name="adj2" fmla="val -127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 E -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2843280" y="5013360"/>
            <a:ext cx="3024000" cy="1512720"/>
          </a:xfrm>
          <a:prstGeom prst="cloudCallout">
            <a:avLst>
              <a:gd name="adj1" fmla="val 1231"/>
              <a:gd name="adj2" fmla="val -180324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 die Tast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lastslide"/>
          </p:cNvPr>
          <p:cNvSpPr/>
          <p:nvPr/>
        </p:nvSpPr>
        <p:spPr>
          <a:xfrm>
            <a:off x="6227640" y="3860640"/>
            <a:ext cx="2556000" cy="2233800"/>
          </a:xfrm>
          <a:prstGeom prst="cloudCallout">
            <a:avLst>
              <a:gd name="adj1" fmla="val -26398"/>
              <a:gd name="adj2" fmla="val -945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 die Briefta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12536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kann Schlimmes beim Chat passi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0" y="4076640"/>
            <a:ext cx="3276720" cy="2665440"/>
          </a:xfrm>
          <a:prstGeom prst="cloudCallout">
            <a:avLst>
              <a:gd name="adj1" fmla="val 24564"/>
              <a:gd name="adj2" fmla="val -97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ute geben an, jemand anderer zu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lastslide"/>
          </p:cNvPr>
          <p:cNvSpPr/>
          <p:nvPr/>
        </p:nvSpPr>
        <p:spPr>
          <a:xfrm>
            <a:off x="3348000" y="4292640"/>
            <a:ext cx="3311640" cy="2305080"/>
          </a:xfrm>
          <a:prstGeom prst="cloudCallout">
            <a:avLst>
              <a:gd name="adj1" fmla="val -29004"/>
              <a:gd name="adj2" fmla="val -8112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e Brieftaube ersche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lastslide"/>
          </p:cNvPr>
          <p:cNvSpPr/>
          <p:nvPr/>
        </p:nvSpPr>
        <p:spPr>
          <a:xfrm>
            <a:off x="6119640" y="3068640"/>
            <a:ext cx="3024360" cy="1800360"/>
          </a:xfrm>
          <a:prstGeom prst="cloudCallout">
            <a:avLst>
              <a:gd name="adj1" fmla="val -53777"/>
              <a:gd name="adj2" fmla="val -715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 Bildschirm zerbr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12536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kann passieren, wenn man beim Download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n Programmen nicht aufpas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2522520"/>
          </a:xfrm>
          <a:prstGeom prst="cloudCallout">
            <a:avLst>
              <a:gd name="adj1" fmla="val 22995"/>
              <a:gd name="adj2" fmla="val -99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Maus wird zerstö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3276720" y="4149720"/>
            <a:ext cx="3311280" cy="2305080"/>
          </a:xfrm>
          <a:prstGeom prst="cloudCallout">
            <a:avLst>
              <a:gd name="adj1" fmla="val -17305"/>
              <a:gd name="adj2" fmla="val -9806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 muss für die Programme beza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lastslide"/>
          </p:cNvPr>
          <p:cNvSpPr/>
          <p:nvPr/>
        </p:nvSpPr>
        <p:spPr>
          <a:xfrm>
            <a:off x="6588000" y="4076640"/>
            <a:ext cx="2556000" cy="2233800"/>
          </a:xfrm>
          <a:prstGeom prst="cloudCallout">
            <a:avLst>
              <a:gd name="adj1" fmla="val -44222"/>
              <a:gd name="adj2" fmla="val -10529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 Computer beginnt zu ta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773360"/>
            <a:ext cx="8280360" cy="1726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bedeutet das Wort „Phisching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2522520"/>
          </a:xfrm>
          <a:prstGeom prst="cloudCallout">
            <a:avLst>
              <a:gd name="adj1" fmla="val 21240"/>
              <a:gd name="adj2" fmla="val -73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 Computer wird und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lastslide"/>
          </p:cNvPr>
          <p:cNvSpPr/>
          <p:nvPr/>
        </p:nvSpPr>
        <p:spPr>
          <a:xfrm>
            <a:off x="2987640" y="4149720"/>
            <a:ext cx="3311640" cy="2305080"/>
          </a:xfrm>
          <a:prstGeom prst="cloudCallout">
            <a:avLst>
              <a:gd name="adj1" fmla="val -18120"/>
              <a:gd name="adj2" fmla="val -74930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 verwendet die Maus als Köder zum Fi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6156360" y="4365720"/>
            <a:ext cx="2987640" cy="2233440"/>
          </a:xfrm>
          <a:prstGeom prst="cloudCallout">
            <a:avLst>
              <a:gd name="adj1" fmla="val -21893"/>
              <a:gd name="adj2" fmla="val -7970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s unerlaubte Abfragen von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0:16:59Z</dcterms:created>
  <dc:creator>WS003</dc:creator>
  <dc:description/>
  <dc:language>en-US</dc:language>
  <cp:lastModifiedBy>WS006</cp:lastModifiedBy>
  <dcterms:modified xsi:type="dcterms:W3CDTF">2011-03-09T11:20:05Z</dcterms:modified>
  <cp:revision>39</cp:revision>
  <dc:subject/>
  <dc:title>Satzzeichen</dc:title>
</cp:coreProperties>
</file>